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23917-F17F-4C50-BBFB-DDD0FFF77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2A62E-23F2-4BB6-A639-47B531DDE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CB1BC-5A87-468B-8923-18C0C7E8A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5F50A-2057-4E8B-B46B-4E44374C3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9C942-CD8F-41A6-9163-71A6AAC31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8195A-FCC0-4ACD-8FA2-BB7CBF9FD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0D7A5-493D-4074-9C64-5221C72CA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8E714-F6A1-4839-B543-A7366AF7A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A56F3-A2C3-4704-8FB1-6E50EEC05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F45D6-B72A-4522-92BC-CD58C9FC2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6EB0C-3C2C-4F0E-A2EF-F5DBB7B42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B076C-F5D6-420F-8017-B9C090FE6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55157-6F28-4DEC-AB99-33ECC388AFFC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19280" y="2390400"/>
            <a:ext cx="56563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" sz="36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68360" y="2214720"/>
            <a:ext cx="8229600" cy="40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Asus</cp:lastModifiedBy>
  <dcterms:modified xsi:type="dcterms:W3CDTF">2018-11-24T09:54:44Z</dcterms:modified>
  <cp:revision>745</cp:revision>
  <dc:subject/>
  <dc:title>Diapositiva 1</dc:title>
</cp:coreProperties>
</file>